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31320"/>
            <a:ext cx="1163304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6124320"/>
            <a:ext cx="116330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7040" y="219060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7040" y="6124320"/>
            <a:ext cx="56768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1880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52160" y="219060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61880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52160" y="6124320"/>
            <a:ext cx="3745440" cy="359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1163304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56120" y="2190600"/>
            <a:ext cx="556236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5996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50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4188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851040" y="520560"/>
            <a:ext cx="11277360" cy="72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86364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0824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7524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2190600"/>
            <a:ext cx="556272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5996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50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4188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2190600"/>
            <a:ext cx="556272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5996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50920" indent="-502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4188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933200" indent="-502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1163304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2692440"/>
            <a:ext cx="116330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86364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08240" indent="-57168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7524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197080" indent="-5713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 rot="60000">
            <a:off x="836280" y="4719600"/>
            <a:ext cx="5245200" cy="254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56272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469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5400000">
            <a:off x="6378120" y="214740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1163304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86364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0824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75248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19708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19708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19708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3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hyperlink" Target="https://www.cia.gov/library/publications/the-world-factbook/geos/mx.html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www.history.com/topics/mexico" TargetMode="External"/><Relationship Id="rId9" Type="http://schemas.openxmlformats.org/officeDocument/2006/relationships/image" Target="../media/image7.png"/><Relationship Id="rId10" Type="http://schemas.openxmlformats.org/officeDocument/2006/relationships/hyperlink" Target="http://www.bbc.co.uk/news/world-latin-america-10681249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hyperlink" Target="http://www.bbc.co.uk/news/world-latin-america-10681249" TargetMode="External"/><Relationship Id="rId10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hyperlink" Target="http://www.youtube.com/watch?v=rye6vDnwkSU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www.youtube.com/watch?v=XvIDmnC9j-k&amp;feature=fvst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www.youtube.com/watch?v=1cyONy-M9J4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hyperlink" Target="http://www.youtube.com/watch?v=cpbx189kzpA" TargetMode="External"/><Relationship Id="rId7" Type="http://schemas.openxmlformats.org/officeDocument/2006/relationships/image" Target="../media/image7.png"/><Relationship Id="rId8" Type="http://schemas.openxmlformats.org/officeDocument/2006/relationships/hyperlink" Target="http://www.youtube.com/watch?v=wtDNYqGNK3A" TargetMode="External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116330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  <a:ea typeface="Marker Felt"/>
              </a:rPr>
              <a:t>México</a:t>
            </a:r>
            <a:endParaRPr b="0" lang="en-US" sz="9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8420040"/>
            <a:ext cx="116330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arker Felt"/>
                <a:ea typeface="Marker Felt"/>
              </a:rPr>
              <a:t>Meghan Wham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2171880" y="3390840"/>
            <a:ext cx="86468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Referencia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6"/>
              </a:rPr>
              <a:t>https://www.cia.gov/library/publications/the-world-factbook/geos/mx.html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8"/>
              </a:rPr>
              <a:t>http://www.history.com/topics/mexico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10"/>
              </a:rPr>
              <a:t>http://www.bbc.co.uk/news/world-latin-america-10681249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</a:rPr>
              <a:t>http://en.wikipedia.org/wiki/Mexican_Spanish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http://en.wikipedia.org/wiki/Nahuatl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Hechos Básico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La población: 114, 975, 406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La capital: La Ciudad de México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El gobierno: República federa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El presidente: Felipe de Jesus Calderon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Se divide en 31 estados y 1 distrito federa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El día de independencia: 16 de septiembre (1810)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 rot="5400000">
            <a:off x="6378120" y="3227040"/>
            <a:ext cx="6769080" cy="53974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1159524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La Historía Antigua: los Mayas y los Azteca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5562720" cy="759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Los Mayas (250-900 dC): desarrollaron un sistema avanzado de las matemáticas, la astronomía y un calendario</a:t>
            </a: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65920" indent="-56592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Los Aztecas: dominaron el imperio más grande en la historia de México y tenían una forma muy estructurada del gobierno y las ciudades desarrolladas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7048440" y="3092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La Historia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1521: Hernán Cortés conquistó los aztecas y España tomó el control de México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1810: Miguel Hidalgo y Castillo luchó su independencia de España en 16 de septiembre, 1810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1821: España reconocido oficialmente la independencia de México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1846-1848: La Guerra México-Americana terminó con el Tratado de Guadalupe Hidalgo que dio la tierra en el suroeste de los EE.UU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1910: La Revolución Mexicana comenzó y la guerra civil duraba 10 años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Sucesos de actualidad: Las Droga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1163304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El Presidente Calderon lanzó su guerra contra las drogas en 2006, pero todavía hay mucho violencia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47.000 personas han muerto en los últimos 5 años debido a la violencia relacionada con las drogas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614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Las zonas más violentas: Chihuahua, Ciudad Juarez, Sinaloa y Monterrey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9"/>
              </a:rPr>
              <a:t>http://www.bbc.co.uk/news/world-latin-america-10681249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La Música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56272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Triba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6"/>
              </a:rPr>
              <a:t>http://www.youtube.com/watch?v=rye6vDnwkSU</a:t>
            </a:r>
            <a:endParaRPr b="0" lang="en-US" sz="2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Ranchera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8"/>
              </a:rPr>
              <a:t>http://www.youtube.com/watch?v=XvIDmnC9j-k&amp;feature=fvst</a:t>
            </a:r>
            <a:endParaRPr b="0" lang="en-US" sz="2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  <a:ea typeface="Marker Felt"/>
              </a:rPr>
              <a:t>Mariachi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10"/>
              </a:rPr>
              <a:t>http://www.youtube.com/watch?v=1cyONy-M9J4</a:t>
            </a:r>
            <a:endParaRPr b="0" lang="en-US" sz="2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1"/>
          <a:stretch/>
        </p:blipFill>
        <p:spPr>
          <a:xfrm>
            <a:off x="7620120" y="646920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2"/>
          <a:stretch/>
        </p:blipFill>
        <p:spPr>
          <a:xfrm>
            <a:off x="7620120" y="241308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1320"/>
            <a:ext cx="1163304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El Bail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556272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Duranguense: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6"/>
              </a:rPr>
              <a:t>http://www.youtube.com/watch?v=cpbx189kzpA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122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arker Felt"/>
                <a:ea typeface="Marker Felt"/>
              </a:rPr>
              <a:t>Jarabe Tapatío: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Marker Felt"/>
                <a:ea typeface="Marker Felt"/>
                <a:hlinkClick r:id="rId8"/>
              </a:rPr>
              <a:t>http://www.youtube.com/watch?v=wtDNYqGNK3A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9"/>
          <a:stretch/>
        </p:blipFill>
        <p:spPr>
          <a:xfrm>
            <a:off x="6261120" y="3578400"/>
            <a:ext cx="58928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98040" y="2692440"/>
            <a:ext cx="1163340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2000"/>
          </a:bodyPr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Las lenguajes indígenas: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Maya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Mixteco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Tzelta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Otomí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Zapoteca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Náhuat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Argot: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Wey= dude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Pelo chino= curly hair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Pedo= far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Órale= wow/okay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297000" indent="-297000">
              <a:lnSpc>
                <a:spcPct val="120000"/>
              </a:lnSpc>
              <a:spcBef>
                <a:spcPts val="2401"/>
              </a:spcBef>
              <a:buSzPct val="16148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rker Felt"/>
                <a:ea typeface="Marker Felt"/>
              </a:rPr>
              <a:t>¿Qué onda?= What’s up?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1163304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El habla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3517920"/>
            <a:ext cx="4635360" cy="83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Argot: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Wey=Dude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Pelo chino=curly hair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Pedo=far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Órale=wow/okay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Marker Felt"/>
                <a:ea typeface="Marker Felt"/>
              </a:rPr>
              <a:t>¿Que ónda?=What’s up?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2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39600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1163304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  <a:ea typeface="Marker Felt"/>
              </a:rPr>
              <a:t>Nahuatl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692440"/>
            <a:ext cx="116330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Guajolote/huaxōlō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Papolote/pāpālō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Jitomate/xītoma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Aguacate/ahuaca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Chicle /tzictli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Coyote/coyo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Cacao/cacahua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huaxōlō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pāpālōtl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xītomatl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ahuaca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tzictli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coyo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165600" indent="-165600">
              <a:lnSpc>
                <a:spcPct val="120000"/>
              </a:lnSpc>
              <a:spcBef>
                <a:spcPts val="2401"/>
              </a:spcBef>
              <a:buSzPct val="16153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cacahuat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